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3B8-9739-4CC4-9B24-EAFE7D03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1F6-842A-43C9-84B1-06C6BD2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FB2-49D6-4F66-B3E5-7C958206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632-E2A9-4618-B9BE-AFAEC0B8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AAF-EA2A-4FB9-B609-A6A0C0B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429-07C9-425B-8752-9E31D690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AA0-76A9-426B-AEA4-2B9B926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E4F-DD2E-49D6-B974-6F4FE2B5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907-2547-4C83-B176-1C4DB18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387-E8D9-49AD-8BF5-82AE3C1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2BC-C399-4317-A2D4-C2DF491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AF7-F1D4-475C-9034-8094656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A88-6DCA-4D18-869D-4D6F3FB94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Rakendusliku loogika süvakur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anel Tammet, Tiina Zin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1" name="Object 5"/>
          <p:cNvGraphicFramePr/>
          <p:nvPr/>
        </p:nvGraphicFramePr>
        <p:xfrm>
          <a:off x="7086600" y="2438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: 4 vari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kehti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är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Teem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 (lauseloog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 (predikaatloog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letussüstee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ventsarvut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6553080" y="22096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1371600" y="17524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2895480" y="220968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1219320" y="3962520"/>
          <a:ext cx="30456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9625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4724280" y="3962520"/>
          <a:ext cx="3049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2971800" y="2819520"/>
          <a:ext cx="3049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2819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1143000" y="3352680"/>
          <a:ext cx="30492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352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2590920" y="182880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6324480" y="1828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828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4800600" y="304812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481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828800" y="54100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10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ja veel mitmeid taolisi reegle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sejuhatus automaattõestam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olutsioonimeet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-Putnami meeto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eotsingu stratee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tseeri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 predikaatarvu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strateegi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das tuvastada lausearvutuse valemi tautoloogilis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põhimõttelist varia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e tabeli ab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tmes N rida, kus N on muutujate arv vale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mõne järeldussüsteemi abi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, Gentzeni naturaal- või sekventsiaalarvutus, resolutsioonimeetod, Davis-Putnam v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abeli vari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F mudel on kõigi muutujate väärtustuste-komplektide hulk, mille puhul valem F on tõene. Sisuliselt tõeväärtustabeli read, kus valem annab väärtuseks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tähendab, et kõigi mudelite (ridade) korral, kus A on tõene, on ka B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siis ja ainult siis, kui |= A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tautoloogiline siis ja ainult siis, kui valem –F on vastuolu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2CB-5969-43B1-9D0D-B402B0EF246C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932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äide: tõeväärtustabe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3200400"/>
          <a:ext cx="6049800" cy="251928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2305080"/>
                <a:gridCol w="1295640"/>
                <a:gridCol w="1296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→ (q → p)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&amp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"/>
          <p:cNvSpPr/>
          <p:nvPr/>
        </p:nvSpPr>
        <p:spPr>
          <a:xfrm>
            <a:off x="1066680" y="1600200"/>
            <a:ext cx="779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A -&gt;B)  on ekvivalentne (– A v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nt (järeldusmootorid jm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mõnda korrektset ja täielikku järelduste tuletamise/kontrollimise süste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- B tähendab, et valitud järeldussüsteemis saab A-st järeldad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korrektne, k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 |- B, siis A|=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täielik, k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|=B, siis A |-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i aksioomi (aksioomiskeem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järeldus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ndamin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ksioomiskeemide muutujaid võib asendada suvaliste lausearvutuse valemit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800" y="-412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\phi \to \phi  "/>
          <p:cNvPicPr/>
          <p:nvPr/>
        </p:nvPicPr>
        <p:blipFill>
          <a:blip r:embed="rId1"/>
          <a:stretch/>
        </p:blipFill>
        <p:spPr>
          <a:xfrm>
            <a:off x="1428840" y="1676520"/>
            <a:ext cx="514440" cy="1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\phi \to \left( \psi \to \phi \right) "/>
          <p:cNvPicPr/>
          <p:nvPr/>
        </p:nvPicPr>
        <p:blipFill>
          <a:blip r:embed="rId2"/>
          <a:stretch/>
        </p:blipFill>
        <p:spPr>
          <a:xfrm>
            <a:off x="1395360" y="1981080"/>
            <a:ext cx="1057320" cy="190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\left ( \phi \to ( \psi \rightarrow \xi \right)) \to \left( \left( \phi \to \psi \right) \to  \left( \phi \to \xi \right) \right)"/>
          <p:cNvPicPr/>
          <p:nvPr/>
        </p:nvPicPr>
        <p:blipFill>
          <a:blip r:embed="rId3"/>
          <a:stretch/>
        </p:blipFill>
        <p:spPr>
          <a:xfrm>
            <a:off x="1387440" y="2286000"/>
            <a:ext cx="323856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\left ( \lnot \phi \to \lnot \psi \right) \to \left( \psi \to \phi \right) "/>
          <p:cNvPicPr/>
          <p:nvPr/>
        </p:nvPicPr>
        <p:blipFill>
          <a:blip r:embed="rId4"/>
          <a:stretch/>
        </p:blipFill>
        <p:spPr>
          <a:xfrm>
            <a:off x="1376280" y="2567160"/>
            <a:ext cx="187668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NF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CNF kujul, kui ta on disjunktsioonide konjunktsioon, kus disjunktsiooni elemendid on kas lausemuutujad või eitusega lausemuutuj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-&gt;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A v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A v -B v -C v 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v E)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-C v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)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E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teklassikalised loogik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allo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anel</cp:lastModifiedBy>
  <dcterms:modified xsi:type="dcterms:W3CDTF">2013-02-04T07:22:52Z</dcterms:modified>
  <cp:revision>21</cp:revision>
  <dc:subject/>
  <dc:title>Rakendusliku loogika süvakursus</dc:title>
</cp:coreProperties>
</file>